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B78-6ECA-42DC-A7BA-EDAF4BCF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s framework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4760" y="615960"/>
            <a:ext cx="4846680" cy="3635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23680" y="4500360"/>
            <a:ext cx="5198760" cy="397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ong the vast set of requirements, this client wanted the system 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this system needed to communicate with the already existing command and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ramework system we built for company x has completely reusable components, allowing the team to… (should be benefit orien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, the application works seamlessly with their existing systems. Resulting i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44F-33DB-4748-82A6-BA6335CB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CB8-54D2-4174-A629-5723FB87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5D9-4A3E-4B39-AEB0-BDC8912D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C0F-DE3F-44B1-933D-4D31F230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6D94-C586-412F-8CF6-A0142CA8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27E-3960-450B-B8E7-7F384D0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8C1-CF61-4387-8510-DCBD3EDF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DCB-9D42-4FEA-B6E8-3A33F1D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6242-7470-4105-A138-8533C921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12BA-1234-4329-9D9A-06BF9337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138-F996-4454-B5E8-A142382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626-6B62-46A0-AE53-B9D931AD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754-D4D3-4E14-8258-F7C7854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6A6A-656C-4CB9-82B2-47FECCC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1617-B0E8-4B21-9644-6EF7B82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5E3-B645-49F7-B32E-B2B46453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29492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882600"/>
            <a:ext cx="2551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F041-33D4-4969-B362-3932017D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283-C6D4-4F05-B7E6-2B6FE5E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2D5-188E-4892-9AFE-189AEEB7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95C-2466-47D8-96E2-2A954E3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696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A43-9EFE-4ED9-96CE-025C104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5DD-141B-4FC5-8256-3DEC62A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6240" y="388260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814-4262-4FF2-B2B8-0BBF051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6240" y="1294920"/>
            <a:ext cx="38671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82600"/>
            <a:ext cx="79246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4E7-F1FB-45D6-80B6-5A45B2E1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80880"/>
            <a:ext cx="8152920" cy="1599840"/>
            <a:chOff x="457200" y="38088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38088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54612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76680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0969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Inside the U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1BF-8DCE-420F-A36F-E43240E255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RatLogo_rev_2color_crisp" descr=""/>
          <p:cNvPicPr/>
          <p:nvPr/>
        </p:nvPicPr>
        <p:blipFill>
          <a:blip r:embed="rId2"/>
          <a:stretch/>
        </p:blipFill>
        <p:spPr>
          <a:xfrm>
            <a:off x="7489800" y="6381720"/>
            <a:ext cx="1603440" cy="43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8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518-ED1A-48D6-9504-8D393347A1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22960"/>
            <a:ext cx="187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3800" y="6222960"/>
            <a:ext cx="28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rmy’s Tactical Light Analysis System (ATLAS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in Info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a message management system that parses incoming messages from various sources and databases them into meaningful for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Requir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ept incoming messages from various protocols including FTP and SMTP and store them into a user-accessible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ch user-defined criteria; Upon a match, notify the user by any combination of the following: email, alert box, beep and lo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Solu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olution is comprised of 3 major package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unication Processer (CP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s all external communication connectivit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base Administrator (DB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vides a common suite of database functions to all other mod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vent Manager (EV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ndles all processing and notification of ev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ational Rose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heck ou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my’s Tactical Light Analysis System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ose model titled atlas.mdl on this C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more information visit the Austin Software Factory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ww.ausinfo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21:24:11Z</dcterms:created>
  <dc:creator>Internal Use</dc:creator>
  <dc:description/>
  <dc:language>en-US</dc:language>
  <cp:lastModifiedBy>Terry Quatrani</cp:lastModifiedBy>
  <dcterms:modified xsi:type="dcterms:W3CDTF">1999-03-12T02:53:37Z</dcterms:modified>
  <cp:revision>26</cp:revision>
  <dc:subject/>
  <dc:title>No Slide Title</dc:title>
</cp:coreProperties>
</file>